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747D14-211F-4AF4-A777-AEE7CF39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assessment – scale or Frayer model to compare to pre-assess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5868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handout and link on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897-D022-4E40-A750-4B32AF2E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011-B95A-44C9-A4A7-4624A5D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7D6-E3F8-4EA5-B146-7188A30D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1A3-A816-494D-8FDC-6984C537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B88-EAEC-4D40-B619-21FDA4C0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4CD-DD82-4B16-867B-FEF508C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07E-2601-419C-8A19-CF83C95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125-4BEF-44CB-80D2-CD53C66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92F-B8E9-4911-A733-8E5657C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1FC-A15B-49F6-8F3A-94FF5682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521-1873-45C4-835F-E60A765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F92-DB95-448A-B534-D2998C0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CEE-39F2-4EE7-8A06-D33B9FA5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 Grade 6-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7391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31840" y="685800"/>
            <a:ext cx="508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17000" tIns="46800" bIns="4680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9160" y="1598760"/>
            <a:ext cx="744480" cy="839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4120" y="1527120"/>
            <a:ext cx="306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Coming to the Ques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3440" cy="878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07440" y="2205000"/>
            <a:ext cx="17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Reconnaissa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34000" y="4419720"/>
            <a:ext cx="992160" cy="66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06520" y="4419720"/>
            <a:ext cx="168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Action an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Data Collec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13120" y="510840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21520" y="6018120"/>
            <a:ext cx="115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Reflec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51040" y="3429000"/>
            <a:ext cx="84132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43920" y="3348000"/>
            <a:ext cx="59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Aha 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8000000">
            <a:off x="2514600" y="472392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8460000">
            <a:off x="5788800" y="335088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40000">
            <a:off x="4800240" y="510516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539400">
            <a:off x="2436480" y="220824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4619400">
            <a:off x="4496400" y="1675440"/>
            <a:ext cx="99036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ectful Tasks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34:11Z</dcterms:created>
  <dc:creator>nancy.schultz</dc:creator>
  <dc:description/>
  <dc:language>en-US</dc:language>
  <cp:lastModifiedBy>nancy.schultz</cp:lastModifiedBy>
  <dcterms:modified xsi:type="dcterms:W3CDTF">2010-04-30T15:33:23Z</dcterms:modified>
  <cp:revision>2</cp:revision>
  <dc:subject/>
  <dc:title>DI Grade 6-9 Final Day</dc:title>
</cp:coreProperties>
</file>